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29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1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12.png" ContentType="image/png"/>
  <Override PartName="/ppt/media/image36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6929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692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0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790440" y="-360"/>
            <a:ext cx="2900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87912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67800" y="4687920"/>
            <a:ext cx="53564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9372240"/>
            <a:ext cx="2900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790440" y="9372240"/>
            <a:ext cx="2900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3CE3-EA8A-45F0-8D60-5060B1AFF5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67800" y="4687920"/>
            <a:ext cx="53564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Номер слайда 3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214D-FC56-43EE-AF94-EB11357B83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630-8341-4DEB-A6B1-EBD5BEE4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F217-D429-4843-8F71-9D7937B7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029D7-5DDD-4F86-AC1F-DB0833CF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FCBE8-8A55-4CCD-B9FF-729DFEC3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2B7F6-14E9-4272-AD1C-EABC908A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A83F9-A255-4E53-8297-0B40E27F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24EA6-AA88-478B-B371-1EB48838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ACE85-79F9-4BD5-9BA1-E720336B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3E31F-34B3-4BE3-9255-6CCA689D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7686E-7123-4216-9302-E9516438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6EF1B-8B7B-4C70-A943-15597E7C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D6E-6595-4B95-8621-AFE64D7B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8DDE-8E46-4225-BEE5-B549DEC8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1FFB-8A7B-41A7-843A-EA629660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D5DB-9A97-454A-8B12-53389724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1504-CDE9-4E0E-A775-C369AE82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AD7B-CFC0-4E59-9F90-F622992C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F302-ED96-4919-9941-ECE975BD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BE37-618B-4B03-A833-D3480EF9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F2BD-7762-4104-A10E-7C1CE012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3F8-D04F-4B8D-8BF0-8CB4F7D9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BC44-D964-4DF7-B11E-E64CB02E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5FC8-9715-47CC-A292-88926CC7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D32A-B5D8-426C-918C-258F7947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9317-0F04-4198-8A05-67C33643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1A83-69E1-43FF-9BB4-C645F332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C075E-1B82-46CB-B87C-C8203298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F27AF-A147-4289-936C-1651CA5D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BEAB1-AB6B-48AE-8DE2-88A28CF3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A05DD-195D-4312-8AFB-CA43479B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53327-EC56-4CFD-A06C-0796619C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EB0-5910-4CA9-86C2-87DA9D69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E28F6-C96F-4C00-8EFE-2EE90B54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C1750-224E-44D5-8113-6F42E3E0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1035A-E03F-42FF-BB51-A5B724E6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B2A63-58F7-4C1D-871D-6BA1E49E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F0581-449B-4946-8C6B-4265C89F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4DCBC-B05E-4337-B12E-CBAFFA7A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BD354-0474-451B-8567-05AFD0B0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FFBC9-3EC0-40F9-9F87-85C358A1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758F5-D3EC-4ADC-BAB8-39204E9F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507F0-5B36-4C11-9561-24C256B4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A85-2F7F-4ECB-8ED4-7611D78A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294D9-2534-434D-BC6F-EDBFCF12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8DC1F-D419-4E97-B6A9-F519ECD0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59A3D-DFCB-4186-BB72-5CBBE912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AF94F-0AA1-4B23-AA09-E2A1D605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4BBFB-5996-4E06-B337-644DE631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0A04D-4F99-4946-B1C2-A7978048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74EE0-6EFE-4932-B074-3FE04F46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1310A-25D0-44D1-A48F-F372B7D1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A3050-C437-496A-BAD3-2568ED9C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91039-0F9A-4336-92B3-8397A962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72B-8944-4457-89FA-A1AE2179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B348B-C0EC-480B-9883-FF5289D6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4C151-F5C0-4050-AC8F-78F8E519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9AE42-ED3E-447A-AC66-E6EEC811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EEF54-0EE6-4064-9382-A0B551D3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5CD29-F49F-4B49-A49F-9FA06BB5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76A3E-1E14-4718-8F58-17669D15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2A9F7-9F61-404B-8F18-04461B7B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AA0B0-C327-4352-B70F-5574FB1A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FC3FA-BAB0-4DCF-8A4A-3B89E58A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F9CE0-AD2B-4B02-AD09-9D86D92F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E97-2B2C-4E28-AD1B-2180C734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B034D-E659-4B27-A93C-1C3D243C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7FC30-06F2-41CB-879B-2049F44D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A9C03-818B-4A10-8961-B4771BDD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A665D-C30A-4E34-8BD3-131B64A2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F7355-706F-4169-A7DE-231197B1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0659E-371B-4098-9748-BDAB50A8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38DE1-80BB-4F70-B9F8-89CFF3A2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3B2B0-5D98-4728-BD35-1DE8C451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3E138-19F4-4B9D-AADF-0A3E9954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F7D54-D4A1-4FDD-9D99-4D09EC96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1BF5-2743-40F5-93B3-F0806B00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02625-5C45-4633-97D6-3C8C237F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71AEB-1365-4437-8DCB-E66CD3AC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0D704-1C01-42D5-93BE-555E9AF1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2F534-EA3D-4F91-BA5E-190D31AE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E415E-05E2-432C-B2BC-23495493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257D1-2D08-4ED8-A208-5FD2EBE7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733B3-9638-4DB5-BF4C-2C202697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D366C-75FA-4737-9D3D-C283D5F9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D84D6-47A2-4007-B3A9-1F2F5E3A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46425-E097-4E7A-93F4-72B9D77A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A80-5F9E-470F-BFD7-F08AC624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32794-8FEF-44D7-BDF0-ABD1093C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18D5E-3F55-4E74-84DD-0FB60CFA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71D41-B8E9-4936-92ED-B12FA6E2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0C52F-4FFC-41DA-B8F0-03EBE262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04994-085D-4241-9E72-F6262405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9BDC1-2C15-4A9F-A0EF-DAC5CE07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DA53E-6BB4-4379-AFC6-41628E98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28406-172D-40B4-8D69-258B7BAF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51EC9-D492-4BAE-88E0-0E2B0D5E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F7B92-387A-40B3-A706-76A60C39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5FA-84FD-4559-B551-15F65A6E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526A3-FDD2-43F1-9061-ADDB7948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39E44-3802-4DAC-B333-A5DE40CA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6E307-5A43-4242-9CEC-CF6CE5EB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EBA53-10EF-4A82-BDA4-C8E4BE1E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24296-A6DA-4201-ADDF-D8A3A937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4B88F-5F2E-414A-835B-13C9084E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0CD86-DDD9-4A1F-B9B3-47A57E84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441DA-FC77-43FB-BF14-2C06725B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FA491-E23A-474C-B9D2-220997BC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1EC60-A40B-4A44-85D8-4D41CD63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63B0-2B79-495C-993B-78652B35142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D61B-2633-4859-8693-65D138FE020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F9C1-6F88-43BA-9391-83CA0095E18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4B05-1CED-47D6-AA1B-3F015B06A8D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3E1A-0AFB-48F6-A8AA-05B02348E38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CA7A-F87B-4AAF-9B0B-FA9ED48AB7D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C825-B419-4358-BB6F-BD917D4A242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7D68-E53C-4F2F-9B8E-DC966838281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BD65-E4AE-4A54-BEE3-E6600191B6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andart.edu.ru/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standart.edu.ru/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4"/>
          <p:cNvSpPr/>
          <p:nvPr/>
        </p:nvSpPr>
        <p:spPr>
          <a:xfrm>
            <a:off x="417600" y="981000"/>
            <a:ext cx="84963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 внеурочной деятельности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аботка программ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ниторинг промежуточных результатов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3780000" y="4934160"/>
            <a:ext cx="53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3357720" y="1646280"/>
            <a:ext cx="291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7" descr="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00880" y="285840"/>
            <a:ext cx="2367000" cy="1035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vneuroch_deyat"/>
          <p:cNvPicPr/>
          <p:nvPr/>
        </p:nvPicPr>
        <p:blipFill>
          <a:blip r:embed="rId3"/>
          <a:stretch/>
        </p:blipFill>
        <p:spPr>
          <a:xfrm rot="857400">
            <a:off x="5375160" y="2900520"/>
            <a:ext cx="1882800" cy="265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1" name="Рисунок 8" descr="C:\Documents and Settings\Светлана.HOME\Рабочий стол\стандарты 2010.bmp"/>
          <p:cNvPicPr/>
          <p:nvPr/>
        </p:nvPicPr>
        <p:blipFill>
          <a:blip r:embed="rId4"/>
          <a:stretch/>
        </p:blipFill>
        <p:spPr>
          <a:xfrm rot="20456400">
            <a:off x="2079720" y="2827440"/>
            <a:ext cx="1608120" cy="264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2" name="Picture 9" descr="vneuroc"/>
          <p:cNvPicPr/>
          <p:nvPr/>
        </p:nvPicPr>
        <p:blipFill>
          <a:blip r:embed="rId5"/>
          <a:stretch/>
        </p:blipFill>
        <p:spPr>
          <a:xfrm>
            <a:off x="3492360" y="2708280"/>
            <a:ext cx="2000520" cy="26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3" name="TextBox 9"/>
          <p:cNvSpPr/>
          <p:nvPr/>
        </p:nvSpPr>
        <p:spPr>
          <a:xfrm>
            <a:off x="-179280" y="6021360"/>
            <a:ext cx="898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аранина Светлана Александровна  Заместитель директора по УВР МБОУ  Вольгинская СОШ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281160" y="262080"/>
            <a:ext cx="6484680" cy="10490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178920" y="1447920"/>
            <a:ext cx="871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Учет занятости учащихся внеурочной деятельностью осуществляется педагогом в журнале учета. 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Журнал учета должен содержать следующую информацию: фамилию, имя, отчество педагога, фамилии, имена обучающихся, класс, дату и форму проведения занятия, содержание. 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Содержание занятий в Журнале учета должно соответствовать содержанию программы внеурочной деятельности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5889-4D5E-47E6-9DB8-5D1C6B52CD5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7" descr="logo"/>
          <p:cNvPicPr/>
          <p:nvPr/>
        </p:nvPicPr>
        <p:blipFill>
          <a:blip r:embed="rId2"/>
          <a:stretch/>
        </p:blipFill>
        <p:spPr>
          <a:xfrm>
            <a:off x="6500880" y="214200"/>
            <a:ext cx="2357280" cy="7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Line 37"/>
          <p:cNvSpPr/>
          <p:nvPr/>
        </p:nvSpPr>
        <p:spPr>
          <a:xfrm>
            <a:off x="4572000" y="2133720"/>
            <a:ext cx="1800360" cy="23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4"/>
          <p:cNvSpPr/>
          <p:nvPr/>
        </p:nvSpPr>
        <p:spPr>
          <a:xfrm flipH="1">
            <a:off x="2195280" y="2133720"/>
            <a:ext cx="2376360" cy="27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1"/>
          <p:cNvSpPr/>
          <p:nvPr/>
        </p:nvSpPr>
        <p:spPr>
          <a:xfrm>
            <a:off x="0" y="2637000"/>
            <a:ext cx="3024360" cy="165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Спортивно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оздоровитель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Уроки здоров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5"/>
          <p:cNvSpPr/>
          <p:nvPr/>
        </p:nvSpPr>
        <p:spPr>
          <a:xfrm>
            <a:off x="1835280" y="857160"/>
            <a:ext cx="6172200" cy="1312920"/>
          </a:xfrm>
          <a:prstGeom prst="flowChartMultidocument">
            <a:avLst/>
          </a:prstGeom>
          <a:gradFill rotWithShape="0">
            <a:gsLst>
              <a:gs pos="0">
                <a:srgbClr val="f0a22e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Направления внеурочной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1"/>
          <p:cNvSpPr/>
          <p:nvPr/>
        </p:nvSpPr>
        <p:spPr>
          <a:xfrm>
            <a:off x="4929120" y="4714920"/>
            <a:ext cx="2951280" cy="180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общеинтеллекту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-в «Исследовате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1"/>
          <p:cNvSpPr/>
          <p:nvPr/>
        </p:nvSpPr>
        <p:spPr>
          <a:xfrm>
            <a:off x="571680" y="5000760"/>
            <a:ext cx="3095280" cy="1584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Духовно-нравств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-в«Наш край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1"/>
          <p:cNvSpPr/>
          <p:nvPr/>
        </p:nvSpPr>
        <p:spPr>
          <a:xfrm>
            <a:off x="3059280" y="2857680"/>
            <a:ext cx="2736720" cy="1857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Социаль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луб «Маленькая стра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6227640" y="2421000"/>
            <a:ext cx="2700360" cy="17985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Общекультур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уж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Народные промыс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3"/>
          <p:cNvSpPr/>
          <p:nvPr/>
        </p:nvSpPr>
        <p:spPr>
          <a:xfrm flipH="1">
            <a:off x="1692000" y="2133720"/>
            <a:ext cx="287964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35"/>
          <p:cNvSpPr/>
          <p:nvPr/>
        </p:nvSpPr>
        <p:spPr>
          <a:xfrm flipH="1">
            <a:off x="4500720" y="2133720"/>
            <a:ext cx="712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6"/>
          <p:cNvSpPr/>
          <p:nvPr/>
        </p:nvSpPr>
        <p:spPr>
          <a:xfrm>
            <a:off x="4572000" y="2133720"/>
            <a:ext cx="295272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Rectangle 289" descr=""/>
          <p:cNvPicPr/>
          <p:nvPr/>
        </p:nvPicPr>
        <p:blipFill>
          <a:blip r:embed="rId1"/>
          <a:stretch/>
        </p:blipFill>
        <p:spPr>
          <a:xfrm>
            <a:off x="334800" y="165240"/>
            <a:ext cx="7242480" cy="102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571680" y="1143000"/>
          <a:ext cx="8177040" cy="5410080"/>
        </p:xfrm>
        <a:graphic>
          <a:graphicData uri="http://schemas.openxmlformats.org/drawingml/2006/table">
            <a:tbl>
              <a:tblPr/>
              <a:tblGrid>
                <a:gridCol w="2076120"/>
                <a:gridCol w="1841760"/>
                <a:gridCol w="1844640"/>
                <a:gridCol w="2414520"/>
              </a:tblGrid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0-8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 начальных кла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у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0-8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0-8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 начальных кла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у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тр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50-9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0-9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0-9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 нач. классов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ий у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0-10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 начальных кла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ическая пау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00-11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0-1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 начальных кла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вертый у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50-11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 начальных кла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д, прогу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0 -13-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ь ГП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уроч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-13-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-45-14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-30-13-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руко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круж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равка детей дом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-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ь ГП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3" name="Picture 7" descr="logo"/>
          <p:cNvPicPr/>
          <p:nvPr/>
        </p:nvPicPr>
        <p:blipFill>
          <a:blip r:embed="rId2"/>
          <a:stretch/>
        </p:blipFill>
        <p:spPr>
          <a:xfrm>
            <a:off x="6500880" y="214200"/>
            <a:ext cx="23572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39"/>
          <p:cNvSpPr/>
          <p:nvPr/>
        </p:nvSpPr>
        <p:spPr>
          <a:xfrm>
            <a:off x="684360" y="5877000"/>
            <a:ext cx="225360" cy="22536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038"/>
          <p:cNvSpPr/>
          <p:nvPr/>
        </p:nvSpPr>
        <p:spPr>
          <a:xfrm>
            <a:off x="684360" y="6165720"/>
            <a:ext cx="225360" cy="21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037"/>
          <p:cNvSpPr/>
          <p:nvPr/>
        </p:nvSpPr>
        <p:spPr>
          <a:xfrm>
            <a:off x="684360" y="6453360"/>
            <a:ext cx="225360" cy="201600"/>
          </a:xfrm>
          <a:prstGeom prst="rect">
            <a:avLst/>
          </a:prstGeom>
          <a:solidFill>
            <a:srgbClr val="d995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045"/>
          <p:cNvSpPr/>
          <p:nvPr/>
        </p:nvSpPr>
        <p:spPr>
          <a:xfrm>
            <a:off x="-482760" y="-2441520"/>
            <a:ext cx="314964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1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0" y="549360"/>
          <a:ext cx="9144000" cy="4946400"/>
        </p:xfrm>
        <a:graphic>
          <a:graphicData uri="http://schemas.openxmlformats.org/drawingml/2006/table">
            <a:tbl>
              <a:tblPr/>
              <a:tblGrid>
                <a:gridCol w="285840"/>
                <a:gridCol w="2786040"/>
                <a:gridCol w="1428840"/>
                <a:gridCol w="1176120"/>
                <a:gridCol w="1143000"/>
                <a:gridCol w="1181160"/>
                <a:gridCol w="114300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еде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в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ят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ртивная сек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Уроки здоров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илиппова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илиппова И.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илиппова И.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ультати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Я-исследовател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тялева Г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чалова С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глова Е.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уб «Маленькая стран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глова Е.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тялева Г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чалова С.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ультатив «Наш край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тялева Г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чалова С.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глова Е.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жок «Народные промысл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яева О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яева О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яева О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  <p:sp>
        <p:nvSpPr>
          <p:cNvPr id="469" name="Rectangle 1547"/>
          <p:cNvSpPr/>
          <p:nvPr/>
        </p:nvSpPr>
        <p:spPr>
          <a:xfrm>
            <a:off x="-480960" y="5508720"/>
            <a:ext cx="18072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1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549"/>
          <p:cNvSpPr/>
          <p:nvPr/>
        </p:nvSpPr>
        <p:spPr>
          <a:xfrm>
            <a:off x="4680000" y="5735520"/>
            <a:ext cx="418752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1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спортивно – оздоровительное напр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550"/>
          <p:cNvSpPr/>
          <p:nvPr/>
        </p:nvSpPr>
        <p:spPr>
          <a:xfrm>
            <a:off x="1020240" y="5880240"/>
            <a:ext cx="266184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1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социальное напр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551"/>
          <p:cNvSpPr/>
          <p:nvPr/>
        </p:nvSpPr>
        <p:spPr>
          <a:xfrm>
            <a:off x="1017000" y="6126480"/>
            <a:ext cx="365400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1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общеинтеллектуальное напр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573"/>
          <p:cNvSpPr/>
          <p:nvPr/>
        </p:nvSpPr>
        <p:spPr>
          <a:xfrm>
            <a:off x="4716360" y="6237360"/>
            <a:ext cx="225360" cy="2253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572"/>
          <p:cNvSpPr/>
          <p:nvPr/>
        </p:nvSpPr>
        <p:spPr>
          <a:xfrm>
            <a:off x="4716360" y="5877000"/>
            <a:ext cx="225360" cy="225360"/>
          </a:xfrm>
          <a:prstGeom prst="rect">
            <a:avLst/>
          </a:prstGeom>
          <a:solidFill>
            <a:srgbClr val="1736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574"/>
          <p:cNvSpPr/>
          <p:nvPr/>
        </p:nvSpPr>
        <p:spPr>
          <a:xfrm>
            <a:off x="607320" y="5664600"/>
            <a:ext cx="233712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1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Условные обознач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576"/>
          <p:cNvSpPr/>
          <p:nvPr/>
        </p:nvSpPr>
        <p:spPr>
          <a:xfrm>
            <a:off x="4788000" y="6156360"/>
            <a:ext cx="376848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1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духовно – нравственное направление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577"/>
          <p:cNvSpPr/>
          <p:nvPr/>
        </p:nvSpPr>
        <p:spPr>
          <a:xfrm>
            <a:off x="1354320" y="6381720"/>
            <a:ext cx="259956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1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щекультурное напр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579"/>
          <p:cNvSpPr/>
          <p:nvPr/>
        </p:nvSpPr>
        <p:spPr>
          <a:xfrm>
            <a:off x="1692360" y="0"/>
            <a:ext cx="6408720" cy="42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1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 Narrow"/>
              </a:rPr>
              <a:t>Расписание внеурочной деятельности в 1 класс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Заголовок 4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352000" cy="127476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 txBox="1"/>
          <p:nvPr/>
        </p:nvSpPr>
        <p:spPr>
          <a:xfrm>
            <a:off x="323640" y="1285920"/>
            <a:ext cx="8569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Ожидаемые результаты связаны с обретением системой внеурочной деятельности такого важного качества, как эффективность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два основных критерия: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1) продуктивность деятельности;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2) удовлетворенность участников деятельности ее организацией и результатами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1D5D-1E2A-4CBB-A67E-484E4328CC4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7" descr="logo"/>
          <p:cNvPicPr/>
          <p:nvPr/>
        </p:nvPicPr>
        <p:blipFill>
          <a:blip r:embed="rId2"/>
          <a:stretch/>
        </p:blipFill>
        <p:spPr>
          <a:xfrm>
            <a:off x="6804000" y="260280"/>
            <a:ext cx="215280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Заголовок 1" descr=""/>
          <p:cNvPicPr/>
          <p:nvPr/>
        </p:nvPicPr>
        <p:blipFill>
          <a:blip r:embed="rId1"/>
          <a:stretch/>
        </p:blipFill>
        <p:spPr>
          <a:xfrm>
            <a:off x="566640" y="30240"/>
            <a:ext cx="8077320" cy="150660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685440" y="1915920"/>
            <a:ext cx="79246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   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знания, умения и навыки, сформированные у школьников в процессе занятий в объединениях дополнительного образования и в ходе подготовки и проведения внеурочных воспитательных дел;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4F7A-3105-4959-8FB3-6AC2E7622C88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7" descr="logo"/>
          <p:cNvPicPr/>
          <p:nvPr/>
        </p:nvPicPr>
        <p:blipFill>
          <a:blip r:embed="rId2"/>
          <a:stretch/>
        </p:blipFill>
        <p:spPr>
          <a:xfrm>
            <a:off x="6643800" y="214200"/>
            <a:ext cx="215244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360360" y="208080"/>
            <a:ext cx="8375760" cy="138888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-360" y="1643040"/>
            <a:ext cx="400068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Первый уровень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– приобретение школьником социального знания (знания об общественных нормах,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об устройстве общества,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о социально одобряемых и неодобряемых формах поведения в обществе и т.д.)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4572000" y="1557360"/>
            <a:ext cx="3394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"/>
          <p:cNvSpPr/>
          <p:nvPr/>
        </p:nvSpPr>
        <p:spPr>
          <a:xfrm>
            <a:off x="611280" y="595008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стигается во взаимодействии с педаго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9" descr="SAM_1783"/>
          <p:cNvPicPr/>
          <p:nvPr/>
        </p:nvPicPr>
        <p:blipFill>
          <a:blip r:embed="rId2"/>
          <a:stretch/>
        </p:blipFill>
        <p:spPr>
          <a:xfrm>
            <a:off x="4788000" y="1268280"/>
            <a:ext cx="3603600" cy="46180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logo"/>
          <p:cNvPicPr/>
          <p:nvPr/>
        </p:nvPicPr>
        <p:blipFill>
          <a:blip r:embed="rId3"/>
          <a:stretch/>
        </p:blipFill>
        <p:spPr>
          <a:xfrm>
            <a:off x="6643800" y="214200"/>
            <a:ext cx="215244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749160" y="420840"/>
            <a:ext cx="7785360" cy="130464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3106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Второй уровень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– получение школьником опыта переживания и  позитивного отношения к базовым ценностям общества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27640" y="1628640"/>
            <a:ext cx="360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914400" y="571500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стигается в дружественной детской среде</a:t>
            </a:r>
            <a:r>
              <a:rPr b="1" i="1" lang="ru-RU" sz="1800" spc="-1" strike="noStrike">
                <a:solidFill>
                  <a:srgbClr val="1818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коллективе</a:t>
            </a:r>
            <a:r>
              <a:rPr b="1" i="1" lang="ru-RU" sz="1800" spc="-1" strike="noStrike">
                <a:solidFill>
                  <a:srgbClr val="4e3b3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SAM_1505"/>
          <p:cNvPicPr/>
          <p:nvPr/>
        </p:nvPicPr>
        <p:blipFill>
          <a:blip r:embed="rId2"/>
          <a:stretch/>
        </p:blipFill>
        <p:spPr>
          <a:xfrm>
            <a:off x="4140360" y="2205000"/>
            <a:ext cx="4667040" cy="27972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logo"/>
          <p:cNvPicPr/>
          <p:nvPr/>
        </p:nvPicPr>
        <p:blipFill>
          <a:blip r:embed="rId3"/>
          <a:stretch/>
        </p:blipFill>
        <p:spPr>
          <a:xfrm>
            <a:off x="6643800" y="214200"/>
            <a:ext cx="215244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Rectangle 2" descr=""/>
          <p:cNvPicPr/>
          <p:nvPr/>
        </p:nvPicPr>
        <p:blipFill>
          <a:blip r:embed="rId1"/>
          <a:stretch/>
        </p:blipFill>
        <p:spPr>
          <a:xfrm>
            <a:off x="42840" y="146160"/>
            <a:ext cx="8888400" cy="152388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78920" y="2060280"/>
            <a:ext cx="30243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Третий уровень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– получение школьником опыта самостоятельного общественного действия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466560" y="595008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стигается во взаимодействии с социальными су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8" descr="SAM_1769"/>
          <p:cNvPicPr/>
          <p:nvPr/>
        </p:nvPicPr>
        <p:blipFill>
          <a:blip r:embed="rId2"/>
          <a:stretch/>
        </p:blipFill>
        <p:spPr>
          <a:xfrm>
            <a:off x="3708360" y="1557360"/>
            <a:ext cx="5184720" cy="43178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7" descr="logo"/>
          <p:cNvPicPr/>
          <p:nvPr/>
        </p:nvPicPr>
        <p:blipFill>
          <a:blip r:embed="rId3"/>
          <a:stretch/>
        </p:blipFill>
        <p:spPr>
          <a:xfrm>
            <a:off x="6643800" y="214200"/>
            <a:ext cx="215244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Номер слайда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943F-E97C-4052-BC62-EA3AC43BED0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2" descr="G:\фото\IMG_5970.JPG"/>
          <p:cNvPicPr/>
          <p:nvPr/>
        </p:nvPicPr>
        <p:blipFill>
          <a:blip r:embed="rId1"/>
          <a:stretch/>
        </p:blipFill>
        <p:spPr>
          <a:xfrm>
            <a:off x="4714920" y="357120"/>
            <a:ext cx="4071960" cy="30542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G:\фото\IMG_5529.JPG"/>
          <p:cNvPicPr/>
          <p:nvPr/>
        </p:nvPicPr>
        <p:blipFill>
          <a:blip r:embed="rId2"/>
          <a:stretch/>
        </p:blipFill>
        <p:spPr>
          <a:xfrm>
            <a:off x="4643280" y="3500280"/>
            <a:ext cx="4000680" cy="30006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G:\фото\IMG_6103.JPG"/>
          <p:cNvPicPr/>
          <p:nvPr/>
        </p:nvPicPr>
        <p:blipFill>
          <a:blip r:embed="rId3"/>
          <a:stretch/>
        </p:blipFill>
        <p:spPr>
          <a:xfrm>
            <a:off x="571680" y="3571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G:\фото\IMG_6113.JPG"/>
          <p:cNvPicPr/>
          <p:nvPr/>
        </p:nvPicPr>
        <p:blipFill>
          <a:blip r:embed="rId4"/>
          <a:stretch/>
        </p:blipFill>
        <p:spPr>
          <a:xfrm>
            <a:off x="428760" y="42876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46160" y="274680"/>
            <a:ext cx="8851680" cy="1030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B620-CECB-443A-9AC8-A74195B09F4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4"/>
          <p:cNvSpPr/>
          <p:nvPr/>
        </p:nvSpPr>
        <p:spPr>
          <a:xfrm>
            <a:off x="357120" y="1571760"/>
            <a:ext cx="8429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оздание  условий для достижения учащимися  необходимого для жизни в обществе социального опыта и формирования принимаемой обществом системы ценностей, создание условий для многогранного развития и социализации каждого учащегося в свободное от учёбы врем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7" descr="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6720" y="285840"/>
            <a:ext cx="208116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Заголовок 1" descr=""/>
          <p:cNvPicPr/>
          <p:nvPr/>
        </p:nvPicPr>
        <p:blipFill>
          <a:blip r:embed="rId1"/>
          <a:stretch/>
        </p:blipFill>
        <p:spPr>
          <a:xfrm>
            <a:off x="-139680" y="255600"/>
            <a:ext cx="9137520" cy="132876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Выставки художественного творчества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Выпуск сборников творческих работ учащихся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Спортивные соревнования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Годовой круг дел и традиций 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День открытых дверей для родителей учащихся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«Малое» научное общество учащихся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Творческие отчеты объединений дополнительного образования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Освещение достижений учащихся в средствах массовой информации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Диагностика достижений учащихся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Фотовыставки «Наши рекорды»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Накопительная оценка. «Портфель достижений»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Конкурс «Ученик года»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1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1DDE-7124-4DC2-9F5C-72DA6A12A8F8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7" descr="logo"/>
          <p:cNvPicPr/>
          <p:nvPr/>
        </p:nvPicPr>
        <p:blipFill>
          <a:blip r:embed="rId2"/>
          <a:stretch/>
        </p:blipFill>
        <p:spPr>
          <a:xfrm>
            <a:off x="7215120" y="214200"/>
            <a:ext cx="15811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Box 2"/>
          <p:cNvSpPr/>
          <p:nvPr/>
        </p:nvSpPr>
        <p:spPr>
          <a:xfrm>
            <a:off x="500040" y="28584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оводится в течение всего учебного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 форме анкетирования,  (таблиц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2960" y="1729440"/>
            <a:ext cx="8001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Эту таблицу умений и навыков предлагается заполнять так. Сначала преподаватель читают ученику умение и предлагают подумать – согласен ли он, что это умеет. Если ученик согласен, он ставит напротив знак «+», если не согласен – не ставит ничего. Преподаватель потом на основании своих наблюдений за учеником может выразить свое мнение – заметил он, как ученик проявляет данное умение, или нет: обвести знак «+» в кружок или не обводи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5"/>
          <p:cNvSpPr/>
          <p:nvPr/>
        </p:nvSpPr>
        <p:spPr>
          <a:xfrm>
            <a:off x="928800" y="5572080"/>
            <a:ext cx="214200" cy="214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Овал 6"/>
          <p:cNvSpPr/>
          <p:nvPr/>
        </p:nvSpPr>
        <p:spPr>
          <a:xfrm>
            <a:off x="928800" y="6215040"/>
            <a:ext cx="214200" cy="214200"/>
          </a:xfrm>
          <a:prstGeom prst="ellipse">
            <a:avLst/>
          </a:prstGeom>
          <a:solidFill>
            <a:srgbClr val="3333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Овал 7"/>
          <p:cNvSpPr/>
          <p:nvPr/>
        </p:nvSpPr>
        <p:spPr>
          <a:xfrm>
            <a:off x="5429160" y="5500800"/>
            <a:ext cx="214560" cy="214200"/>
          </a:xfrm>
          <a:prstGeom prst="ellipse">
            <a:avLst/>
          </a:prstGeom>
          <a:solidFill>
            <a:srgbClr val="ff8633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Овал 8"/>
          <p:cNvSpPr/>
          <p:nvPr/>
        </p:nvSpPr>
        <p:spPr>
          <a:xfrm>
            <a:off x="5429160" y="6143760"/>
            <a:ext cx="21456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WordArt 3"/>
          <p:cNvSpPr txBox="1"/>
          <p:nvPr/>
        </p:nvSpPr>
        <p:spPr>
          <a:xfrm>
            <a:off x="1285920" y="5572080"/>
            <a:ext cx="271476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чностные УУД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0" name="WordArt 4"/>
          <p:cNvSpPr txBox="1"/>
          <p:nvPr/>
        </p:nvSpPr>
        <p:spPr>
          <a:xfrm>
            <a:off x="1285920" y="6072120"/>
            <a:ext cx="27334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знавательные УУД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1" name="WordArt 5"/>
          <p:cNvSpPr txBox="1"/>
          <p:nvPr/>
        </p:nvSpPr>
        <p:spPr>
          <a:xfrm>
            <a:off x="5786280" y="5429160"/>
            <a:ext cx="273384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ятивные УУД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2" name="WordArt 6"/>
          <p:cNvSpPr txBox="1"/>
          <p:nvPr/>
        </p:nvSpPr>
        <p:spPr>
          <a:xfrm>
            <a:off x="5857920" y="6000840"/>
            <a:ext cx="2733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муникативные УУД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3" name="Picture 7" descr="logo"/>
          <p:cNvPicPr/>
          <p:nvPr/>
        </p:nvPicPr>
        <p:blipFill>
          <a:blip r:embed="rId1"/>
          <a:stretch/>
        </p:blipFill>
        <p:spPr>
          <a:xfrm>
            <a:off x="6786720" y="214200"/>
            <a:ext cx="20095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4" name=""/>
          <p:cNvGraphicFramePr/>
          <p:nvPr/>
        </p:nvGraphicFramePr>
        <p:xfrm>
          <a:off x="142920" y="142920"/>
          <a:ext cx="8786880" cy="6508800"/>
        </p:xfrm>
        <a:graphic>
          <a:graphicData uri="http://schemas.openxmlformats.org/drawingml/2006/table">
            <a:tbl>
              <a:tblPr/>
              <a:tblGrid>
                <a:gridCol w="5572080"/>
                <a:gridCol w="857160"/>
                <a:gridCol w="928800"/>
                <a:gridCol w="642960"/>
                <a:gridCol w="785880"/>
              </a:tblGrid>
              <a:tr h="2451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октяб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 декаб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мар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ма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могу сказать, что и зачем мы будем делать на занят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могу сказать, что нового я узнал на занят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умею наблюдать и делать выво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могу запомнить важные све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с уважением отношусь к другим людя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выполняю правила, о которых мы договорились в групп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умею объяснять, что я чувству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понимаю, что в моей жизни мне помогают другие люди и природа, что я не могу жить без ни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9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могу прочесть про себя и вслух небольшое  задание, понять его смысл и рассказать о не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0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помню наизусть и могу сыграть небольшой отрывок из музыкального произведе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могу правильно выполнить без посторонней помощи небольшую поделку по схем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2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могу самостоятельно сделать небольшую презентацию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3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умею слушать и слышать преподавателя и однокласснико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4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могу устно дать полный ответ  на вопрос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5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умею выполнять не сложные элементы в танце (модульном оригами и т.д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умею решать задачи на сложение и вычитание в одно действие и чертить различные геометрические фигур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7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умею разделять предметы на группы, объяснять их сходство и находить лишни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826A-E686-4467-9466-9A9159AC984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" descr="C:\Users\Светлана\Desktop\сем зав\семинар фотки\IMG_1187.JPG"/>
          <p:cNvPicPr/>
          <p:nvPr/>
        </p:nvPicPr>
        <p:blipFill>
          <a:blip r:embed="rId1"/>
          <a:stretch/>
        </p:blipFill>
        <p:spPr>
          <a:xfrm>
            <a:off x="714240" y="500040"/>
            <a:ext cx="78552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</a:t>
            </a:r>
            <a:endParaRPr b="0" lang="en-US" sz="60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внимание</a:t>
            </a:r>
            <a:endParaRPr b="0" lang="en-US" sz="60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8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BA75-6397-4B0B-8F3A-4D9577BD3FC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98440" y="291960"/>
            <a:ext cx="6566040" cy="14209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еурочная деятельность в начальной школе позволяет решить ещё целый ряд очень важных задач: </a:t>
            </a:r>
            <a:endParaRPr b="0" lang="en-US" sz="30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еспечить благоприятную адаптацию ребенка в школе; </a:t>
            </a:r>
            <a:endParaRPr b="0" lang="en-US" sz="30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тимизировать учебную нагрузку обучающихся; </a:t>
            </a:r>
            <a:endParaRPr b="0" lang="en-US" sz="30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лучшить условия для развития ребенка; </a:t>
            </a:r>
            <a:endParaRPr b="0" lang="en-US" sz="30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сть возрастные и индивидуальные особенности обучающихся.</a:t>
            </a:r>
            <a:endParaRPr b="0" lang="en-US" sz="30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3DD1-7F1E-4B8A-8A11-7929FA28656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7" descr="logo"/>
          <p:cNvPicPr/>
          <p:nvPr/>
        </p:nvPicPr>
        <p:blipFill>
          <a:blip r:embed="rId2"/>
          <a:stretch/>
        </p:blipFill>
        <p:spPr>
          <a:xfrm>
            <a:off x="6715080" y="285840"/>
            <a:ext cx="215280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4" descr=""/>
          <p:cNvPicPr/>
          <p:nvPr/>
        </p:nvPicPr>
        <p:blipFill>
          <a:blip r:embed="rId1"/>
          <a:stretch/>
        </p:blipFill>
        <p:spPr>
          <a:xfrm>
            <a:off x="182520" y="378000"/>
            <a:ext cx="6894720" cy="12380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213840" y="1447920"/>
            <a:ext cx="8750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Принцип системности. 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ление взаимосвязи между: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семи участниками внеурочной деятельности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сновными компонентами организуемой деятельности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рочной и внеурочной деятельностью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егиональной, муниципальной, общешкольной, классной, индивидуальной системами воспитания и дополнительного образования школьников.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2.Принцип вариативности. 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Принцип креативности. 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ринцип успешности и социальной значимости. Усилия направляются на формирование у детей потребности в достижении успеха. Важно, чтобы достигаемые ребенком результаты были не только личностно значимыми, но и ценными для окружающих, особенно для его одноклассников, членов школьного коллектива, представителей ближайшего социального окружения учебного заведения.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3950-1B0B-4D99-839E-F882076DA11A}" type="slidenum">
              <a:rPr b="0" lang="ru-RU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7" descr="logo"/>
          <p:cNvPicPr/>
          <p:nvPr/>
        </p:nvPicPr>
        <p:blipFill>
          <a:blip r:embed="rId2"/>
          <a:stretch/>
        </p:blipFill>
        <p:spPr>
          <a:xfrm>
            <a:off x="6715080" y="285840"/>
            <a:ext cx="215280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165240" y="146160"/>
            <a:ext cx="8454960" cy="1358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250560" y="1285920"/>
            <a:ext cx="8569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й нормативный правовой документ – ФГОС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По типу организационной модели на  базе Вольгинской СОШ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Оптимизационная модель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(на основе оптимизации всех внутренних ресурсов образовательного учреждения);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884E-5208-4121-8B43-92E2DCE920A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7" descr="logo"/>
          <p:cNvPicPr/>
          <p:nvPr/>
        </p:nvPicPr>
        <p:blipFill>
          <a:blip r:embed="rId2"/>
          <a:stretch/>
        </p:blipFill>
        <p:spPr>
          <a:xfrm>
            <a:off x="6715080" y="285840"/>
            <a:ext cx="215280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554040" y="12600"/>
            <a:ext cx="8066160" cy="14083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24000" y="1143000"/>
            <a:ext cx="86407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ловно можно выделить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и этапа: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    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ны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включающий в себя диагностику интересов, увлечений, потребностей детей, запросов их родителей и проектирование на основе ее результатов системы организации внеурочной деятельности в образовательном учреждении и его структурных подразделениях;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    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онно-деятельностны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в рамках которого происходит создание и функционирование разработанной системы внеурочной деятельности посредством ее ресурсного обеспечения;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    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тический,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ходе которого осуществляется анализ функционирования созданной системы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8793-7749-4AD5-8915-74ECED7F4B9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3" descr=""/>
          <p:cNvPicPr/>
          <p:nvPr/>
        </p:nvPicPr>
        <p:blipFill>
          <a:blip r:embed="rId1"/>
          <a:stretch/>
        </p:blipFill>
        <p:spPr>
          <a:xfrm>
            <a:off x="262080" y="146160"/>
            <a:ext cx="8358120" cy="16333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23640" y="1571760"/>
            <a:ext cx="8543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навыков сотрудничества, умения не создавать конфликтов и находить выходы из спорных ситуаций;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умения планировать, контролировать и оценивать действия; определять наиболее эффективные способы достижения результата;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эстетических потребностей, ценностей и чувств;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уважительного отношения к России, родному краю, своей семье, истории, культуре, природе нашей страны, её современной жизни;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установки на безопасный, здоровый образ жизни;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6" name="Номер слайда 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B8D5-2E86-41E3-902B-3ADB646E2113}" type="slidenum">
              <a:rPr b="0" lang="ru-RU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7" descr="logo"/>
          <p:cNvPicPr/>
          <p:nvPr/>
        </p:nvPicPr>
        <p:blipFill>
          <a:blip r:embed="rId2"/>
          <a:stretch/>
        </p:blipFill>
        <p:spPr>
          <a:xfrm>
            <a:off x="6885000" y="285840"/>
            <a:ext cx="197316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6480" y="73080"/>
            <a:ext cx="8613720" cy="15177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250920" y="1628640"/>
            <a:ext cx="8616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 преимуществом внеурочной деятельности является предоставление обучающимся возможности широкого спектра занятий, направленных на их развитие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 занятий, предусмотренных в рамках внеурочной деятельности,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ормируется с учётом пожеланий обучающихся и их родителе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законных представителей)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ормы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экскурсии, кружки, секции, круглые столы, конференции, диспуты, школьные научные общества, олимпиады, соревнования, поисковые и научные исследования, общественно полезные практики 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ECA4-CF85-4923-A9AD-B58C415AD21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7" descr="logo"/>
          <p:cNvPicPr/>
          <p:nvPr/>
        </p:nvPicPr>
        <p:blipFill>
          <a:blip r:embed="rId2"/>
          <a:stretch/>
        </p:blipFill>
        <p:spPr>
          <a:xfrm>
            <a:off x="6715080" y="285840"/>
            <a:ext cx="215280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158760" y="291960"/>
            <a:ext cx="6778440" cy="10494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68360" y="169992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Рабочая программа включает следующие </a:t>
            </a:r>
            <a:r>
              <a:rPr b="0" lang="ru-RU" sz="2600" spc="-1" strike="noStrike">
                <a:solidFill>
                  <a:srgbClr val="ff0000"/>
                </a:solidFill>
                <a:latin typeface="Verdana"/>
              </a:rPr>
              <a:t>структурные элементы:</a:t>
            </a:r>
            <a:endParaRPr b="0" lang="en-US" sz="26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титульный лист;</a:t>
            </a:r>
            <a:endParaRPr b="0" lang="en-US" sz="26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пояснительная записка;</a:t>
            </a:r>
            <a:endParaRPr b="0" lang="en-US" sz="26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требования к уровню подготовки обучающихся;</a:t>
            </a:r>
            <a:endParaRPr b="0" lang="en-US" sz="26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календарно-тематический план;</a:t>
            </a:r>
            <a:endParaRPr b="0" lang="en-US" sz="26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содержание рабочей программы;</a:t>
            </a:r>
            <a:endParaRPr b="0" lang="en-US" sz="26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средства контроля;</a:t>
            </a:r>
            <a:endParaRPr b="0" lang="en-US" sz="26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учебно-методические средства обучения.</a:t>
            </a:r>
            <a:endParaRPr b="0" lang="en-US" sz="26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D343-824F-4367-888A-ACEB0C25551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7" descr="logo"/>
          <p:cNvPicPr/>
          <p:nvPr/>
        </p:nvPicPr>
        <p:blipFill>
          <a:blip r:embed="rId2"/>
          <a:stretch/>
        </p:blipFill>
        <p:spPr>
          <a:xfrm>
            <a:off x="6715080" y="214200"/>
            <a:ext cx="2143080" cy="78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1:47:05Z</dcterms:created>
  <dc:creator>Феденко</dc:creator>
  <dc:description/>
  <dc:language>en-US</dc:language>
  <cp:lastModifiedBy>Началка3</cp:lastModifiedBy>
  <dcterms:modified xsi:type="dcterms:W3CDTF">2013-04-13T08:23:42Z</dcterms:modified>
  <cp:revision>440</cp:revision>
  <dc:subject/>
  <dc:title>Слайд 1</dc:title>
</cp:coreProperties>
</file>